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7CED0-10BC-4F5B-9DCB-D8EF6AD652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44E8D-3C1E-4035-AB6F-1826A1F48A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6E4F8-F4CC-42BC-BDD1-4036A35EAF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E3083-B8CA-40D9-B5C8-1CBC07DA36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2944E-E5B1-4189-8780-2F03C9508B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EB00E-7D09-429E-8E31-2CF664B266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ACE99-F0F7-4256-9DEE-4F09EAB910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FE5BB-B71E-4FCA-AABB-CDC1BB91DC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270CD-87FD-460E-A5A5-75AA190A53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C4959-A511-451A-BD93-1D8904550B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CC3F5-2EB5-4416-9BCC-618F0DA986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A255B-FCAC-40A6-A1FE-3C90F68E5C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34DE0-8273-4C7D-AA99-8C38431C8A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E9F-7A3D-473F-9DA3-EB394F09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A7B-987B-48A8-A246-CC2FFE26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D7A-40E5-4184-A3A3-C4E9AAC1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E0F-4E94-49AE-AF2B-5F51EDF1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FF6-4998-472D-8297-075C638E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AF7-F2F1-4C9E-ABD3-6281F07C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4FB-41F7-48B0-A9B4-199796D5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8CC-BB9F-4E57-8494-F243B549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737-9715-4C41-8D0D-D559279F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E65-8E6A-4207-9A74-83F2D557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007-A268-41A5-9EC5-437CCD9F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80C-30BB-487A-9B5F-299466D0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8FD2E-5049-4085-98C5-015883897B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arche.htm" TargetMode="External"/><Relationship Id="rId2" Type="http://schemas.openxmlformats.org/officeDocument/2006/relationships/hyperlink" Target="file:///toscana.htm" TargetMode="External"/><Relationship Id="rId3" Type="http://schemas.openxmlformats.org/officeDocument/2006/relationships/hyperlink" Target="file:///lazio.htm" TargetMode="External"/><Relationship Id="rId4" Type="http://schemas.openxmlformats.org/officeDocument/2006/relationships/hyperlink" Target="file:///tevere.htm" TargetMode="External"/><Relationship Id="rId5" Type="http://schemas.openxmlformats.org/officeDocument/2006/relationships/hyperlink" Target="file:///lago_trasimeno.htm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'Umb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47640" y="1800360"/>
            <a:ext cx="907092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720720" y="64764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1224000" y="1368360"/>
            <a:ext cx="792000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Giovanni D'Agostino 1^A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015/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655640" y="2592360"/>
            <a:ext cx="6912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65160" y="0"/>
            <a:ext cx="9655200" cy="90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Times New Roman"/>
              </a:rPr>
              <a:t>Superficie: 8.456 Km² Abitanti: 896.000 Densità: 106 ab/Km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1574640" y="2479680"/>
            <a:ext cx="697896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54000" y="538200"/>
            <a:ext cx="9882000" cy="10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apoluogo: Perugia (166.200 ab.) Capoluoghi di provincia: Terni 112.200 ab. Altri comuni: Foligno 57.2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ittà di Castello 40.1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Spoleto 38.7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Gubbio 32.6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Assisi 28.2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Bastia Umbra 21.9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orciano 21.300 ab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0520" y="287280"/>
            <a:ext cx="79711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Orvieto 20.9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Narni 20.0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Marsciano 18.9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Todi 17.0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Umbertide 16.7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astiglione del Lago 15.7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Gualdo Tadino 15.400 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-71280" y="0"/>
            <a:ext cx="10152000" cy="10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onfini: </a:t>
            </a: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rche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a NORD-EST</a:t>
            </a:r>
            <a:br>
              <a:rPr sz="4800"/>
            </a:b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oscana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 a OVEST</a:t>
            </a:r>
            <a:br>
              <a:rPr sz="4800"/>
            </a:b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azio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a SUD                             Monti principali: Monte Vettore 2.448 m. Fiumi principali: </a:t>
            </a: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evere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405 Km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Nera 116 Km Laghi principali: </a:t>
            </a: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Lago Trasimeno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128 Km²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Lago di Piediluco 1,6 Km² Isole principali: Isola Polvese, Isola Maggiore (nel lago Trasim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224000" y="2448000"/>
            <a:ext cx="7775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431640" y="1871640"/>
            <a:ext cx="806472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224000" y="2160720"/>
            <a:ext cx="835164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1T06:46:47Z</dcterms:created>
  <dc:creator>Nicola </dc:creator>
  <dc:description/>
  <dc:language>en-US</dc:language>
  <cp:lastModifiedBy>Utente</cp:lastModifiedBy>
  <dcterms:modified xsi:type="dcterms:W3CDTF">2016-06-03T10:28:57Z</dcterms:modified>
  <cp:revision>2</cp:revision>
  <dc:subject/>
  <dc:title>L'Umbria</dc:title>
</cp:coreProperties>
</file>