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DD561-40B2-469B-8D8A-1BB47DEB1A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334AF-E067-4ACD-88D4-727D101439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9F7D7-1720-43EE-8B47-806A4D63A3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7551D-7510-40ED-9790-1B7688A3D8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685ED-4A8F-49F8-B521-EBDC488454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5D230-D922-4CE4-94A5-EDC080012A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A8937-125D-4E42-B638-190534C34F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F8591-8C8C-49DF-AB45-837115202A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ECD75-C769-46EB-B2B1-06FADDFF3F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68FF1-DB33-48E9-8C16-072E6F521C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2183A-0023-4E6A-B15C-45C68C874F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B732A-3F71-4E37-9AA0-7C180ADA27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60B96-54AA-49EB-9722-4F432DD89D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180-6001-47E1-AFAA-9E85A1C4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3BC-44FA-4321-8894-1CB658F1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1DD-8041-403D-A759-7DAB7682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E70-C728-4969-83D7-A11333D9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6F6-B988-4305-A9FF-5547CFCF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948-FD6D-414C-8E67-16785134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F07-0E0B-4D50-B3D4-9C3E6413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CED-EFB7-465D-8D02-6B03F910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27B-C02B-4767-AB2E-E86D2EAB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CDD-D8B7-4880-B3ED-683F238B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953-362F-4789-AE62-6698B68C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4B3-B6EC-4273-B495-CD6D1ABA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E4352-1D82-48D6-A27D-3DC720C4E1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arche.htm" TargetMode="External"/><Relationship Id="rId2" Type="http://schemas.openxmlformats.org/officeDocument/2006/relationships/hyperlink" Target="file:///toscana.htm" TargetMode="External"/><Relationship Id="rId3" Type="http://schemas.openxmlformats.org/officeDocument/2006/relationships/hyperlink" Target="file:///lazio.htm" TargetMode="External"/><Relationship Id="rId4" Type="http://schemas.openxmlformats.org/officeDocument/2006/relationships/hyperlink" Target="file:///tevere.htm" TargetMode="External"/><Relationship Id="rId5" Type="http://schemas.openxmlformats.org/officeDocument/2006/relationships/hyperlink" Target="file:///lago_trasimeno.htm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'Umb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47640" y="1800360"/>
            <a:ext cx="907092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720720" y="64764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1224000" y="1368360"/>
            <a:ext cx="792000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Giovanni D'Agostino 1^A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015/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55640" y="2592360"/>
            <a:ext cx="6912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65160" y="0"/>
            <a:ext cx="9655200" cy="90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Times New Roman"/>
              </a:rPr>
              <a:t>Superficie: 8.456 Km² Abitanti: 896.000 Densità: 106 ab/Km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1574640" y="2479680"/>
            <a:ext cx="697896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54000" y="538200"/>
            <a:ext cx="9882000" cy="10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apoluogo: Perugia (166.200 ab.) Capoluoghi di provincia: Terni 112.200 ab. Altri comuni: Foligno 57.2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ittà di Castello 40.1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Spoleto 38.7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Gubbio 32.6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Assisi 28.2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Bastia Umbra 21.9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orciano 21.300 ab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0520" y="287280"/>
            <a:ext cx="79711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Orvieto 20.9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Narni 20.0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Marsciano 18.9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Todi 17.0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Umbertide 16.7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astiglione del Lago 15.7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Gualdo Tadino 15.400 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-71280" y="0"/>
            <a:ext cx="10152000" cy="10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onfini: </a:t>
            </a: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rche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a NORD-EST</a:t>
            </a:r>
            <a:br>
              <a:rPr sz="4800"/>
            </a:b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oscana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 a OVEST</a:t>
            </a:r>
            <a:br>
              <a:rPr sz="4800"/>
            </a:b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azio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a SUD                             Monti principali: Monte Vettore 2.448 m. Fiumi principali: </a:t>
            </a: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evere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405 Km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Nera 116 Km Laghi principali: </a:t>
            </a: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Lago Trasimeno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128 Km²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Lago di Piediluco 1,6 Km² Isole principali: Isola Polvese, Isola Maggiore (nel lago Trasim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224000" y="2448000"/>
            <a:ext cx="7775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431640" y="1871640"/>
            <a:ext cx="806472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224000" y="2160720"/>
            <a:ext cx="835164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1T06:46:47Z</dcterms:created>
  <dc:creator>Nicola </dc:creator>
  <dc:description/>
  <dc:language>en-US</dc:language>
  <cp:lastModifiedBy>Utente</cp:lastModifiedBy>
  <dcterms:modified xsi:type="dcterms:W3CDTF">2016-06-03T10:28:57Z</dcterms:modified>
  <cp:revision>2</cp:revision>
  <dc:subject/>
  <dc:title>L'Umbria</dc:title>
</cp:coreProperties>
</file>