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667AB-4B91-40FB-90E3-ED4D7376468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4AAD22-E333-4B65-BDA5-A584BB57A2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57B92-C704-41F5-85E1-C4ABA15BE0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D42F4B-7395-45B3-B0AC-D21F3C3FA6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AD528-B3D6-4F77-BC87-584B5045A23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9A7778-9281-4DB0-B380-9E901ACD22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BD0530-875E-4060-A879-C76D78F2B72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36B26-D516-4F28-A016-213D85C4F6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65392-8E2E-40C2-8DAE-C8117E1254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C8237-C0CD-4E8A-BB84-B1D69E1C59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CBC7A-901E-4C27-ABFE-7F4BB3E38A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CB46F-4553-46BE-80B4-59C95ACD4E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442D8-B591-423A-A259-D969C69BE41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A9B0-BBCF-4A23-9984-A6DBFB0C0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FD35-74CC-4647-BFC8-A2635277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87A8-2083-48F4-8EAB-6C8B48EB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28F5-6824-4CFF-856C-7636969DF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D955-1BEE-40C6-A46B-769E0451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8BD0-BE1B-416D-9C4C-F1AE6A84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36D-287E-43F5-ABB6-C200D805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6ED8-CE45-40B8-9BC9-8986C8C6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60E1-795F-4C6C-86D8-F247D603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953-3E45-4205-BEFF-1441787A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B26-D827-4E06-A2B6-3825A188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E0A4-654D-4360-B1CE-C13D4F8C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3F5322F-FAB2-4FF8-86FC-1D4B49A4EA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../Tabelle/Elenco_regioni_italiane.htm" TargetMode="External"/><Relationship Id="rId2" Type="http://schemas.openxmlformats.org/officeDocument/2006/relationships/hyperlink" Target="file:///../Statistiche/Superficie_regioni_italiane.htm" TargetMode="External"/><Relationship Id="rId3" Type="http://schemas.openxmlformats.org/officeDocument/2006/relationships/hyperlink" Target="file:///../Statistiche/Superficie_regioni_italiane.htm" TargetMode="External"/><Relationship Id="rId4" Type="http://schemas.openxmlformats.org/officeDocument/2006/relationships/hyperlink" Target="file:///../Statistiche/Superficie_regioni_italiane.htm" TargetMode="External"/><Relationship Id="rId5" Type="http://schemas.openxmlformats.org/officeDocument/2006/relationships/hyperlink" Target="file:///../Statistiche/Popolazione_regioni_italiane.htm" TargetMode="External"/><Relationship Id="rId6" Type="http://schemas.openxmlformats.org/officeDocument/2006/relationships/hyperlink" Target="file:///../Statistiche/Densita_popolazione_regioni.htm" TargetMode="External"/><Relationship Id="rId7" Type="http://schemas.openxmlformats.org/officeDocument/2006/relationships/hyperlink" Target="file:///../../geografia/densita_popolazione.htm" TargetMode="External"/><Relationship Id="rId8" Type="http://schemas.openxmlformats.org/officeDocument/2006/relationships/hyperlink" Target="file:///../Tabelle/Province.htm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mbria.htm" TargetMode="External"/><Relationship Id="rId2" Type="http://schemas.openxmlformats.org/officeDocument/2006/relationships/hyperlink" Target="file:///Toscana.htm" TargetMode="External"/><Relationship Id="rId3" Type="http://schemas.openxmlformats.org/officeDocument/2006/relationships/hyperlink" Target="file:///Emilia_Romagna.htm" TargetMode="External"/><Relationship Id="rId4" Type="http://schemas.openxmlformats.org/officeDocument/2006/relationships/hyperlink" Target="file:///Emilia_Romagna.htm" TargetMode="External"/><Relationship Id="rId5" Type="http://schemas.openxmlformats.org/officeDocument/2006/relationships/hyperlink" Target="file:///../Mari_Coste/mar_adriatico.htm" TargetMode="External"/><Relationship Id="rId6" Type="http://schemas.openxmlformats.org/officeDocument/2006/relationships/hyperlink" Target="file:///Abruzzo.htm" TargetMode="External"/><Relationship Id="rId7" Type="http://schemas.openxmlformats.org/officeDocument/2006/relationships/hyperlink" Target="file:///Lazio.htm" TargetMode="External"/><Relationship Id="rId8" Type="http://schemas.openxmlformats.org/officeDocument/2006/relationships/hyperlink" Target="file:///Umbria.htm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Italia_in_generale/italia.htm" TargetMode="External"/><Relationship Id="rId2" Type="http://schemas.openxmlformats.org/officeDocument/2006/relationships/hyperlink" Target="file:///../Statistiche/Pil_procapite_regioni.htm" TargetMode="External"/><Relationship Id="rId3" Type="http://schemas.openxmlformats.org/officeDocument/2006/relationships/hyperlink" Target="file:///../Statistiche/Produzioni_agricole_italia.htm" TargetMode="External"/><Relationship Id="rId4" Type="http://schemas.openxmlformats.org/officeDocument/2006/relationships/hyperlink" Target="file:///../../geografia_economica/canna_da_zucchero_barbabietola.htm" TargetMode="External"/><Relationship Id="rId5" Type="http://schemas.openxmlformats.org/officeDocument/2006/relationships/hyperlink" Target="file:///../../geografia_economica/frumento.htm" TargetMode="External"/><Relationship Id="rId6" Type="http://schemas.openxmlformats.org/officeDocument/2006/relationships/hyperlink" Target="file:///../../geografia_economica/piante_da_frutto_ortaggi.htm" TargetMode="External"/><Relationship Id="rId7" Type="http://schemas.openxmlformats.org/officeDocument/2006/relationships/hyperlink" Target="file:///../../geografia_economica/piante_da_frutto_ortaggi.htm" TargetMode="External"/><Relationship Id="rId8" Type="http://schemas.openxmlformats.org/officeDocument/2006/relationships/hyperlink" Target="file:///../../geografia_economica/legumi.htm" TargetMode="External"/><Relationship Id="rId9" Type="http://schemas.openxmlformats.org/officeDocument/2006/relationships/hyperlink" Target="file:///../../geografia_economica/piante_oleifere.htm" TargetMode="External"/><Relationship Id="rId10" Type="http://schemas.openxmlformats.org/officeDocument/2006/relationships/hyperlink" Target="file:///../../geografia_economica/agricoltura.htm" TargetMode="External"/><Relationship Id="rId11" Type="http://schemas.openxmlformats.org/officeDocument/2006/relationships/hyperlink" Target="file:///../Statistiche/Allevamento_bestiame_italia.htm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Statistiche/Allevamento_bestiame_italia_1.htm" TargetMode="External"/><Relationship Id="rId2" Type="http://schemas.openxmlformats.org/officeDocument/2006/relationships/hyperlink" Target="file:///../../geografia_economica/allevamento_bestiame.htm" TargetMode="External"/><Relationship Id="rId3" Type="http://schemas.openxmlformats.org/officeDocument/2006/relationships/hyperlink" Target="file:///../Statistiche/Allevamento_bestiame_italia_1.htm" TargetMode="External"/><Relationship Id="rId4" Type="http://schemas.openxmlformats.org/officeDocument/2006/relationships/hyperlink" Target="file:///../Statistiche/Allevamento_bestiame_italia_1.htm" TargetMode="External"/><Relationship Id="rId5" Type="http://schemas.openxmlformats.org/officeDocument/2006/relationships/hyperlink" Target="file:///../../geografia_economica/evoluzione_pesca.htm" TargetMode="External"/><Relationship Id="rId6" Type="http://schemas.openxmlformats.org/officeDocument/2006/relationships/hyperlink" Target="file:///../../geografia_economica/settore_secondario.ht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431640" y="431640"/>
            <a:ext cx="9072720" cy="640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Nelle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arch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ono diffuse soprattutto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piccol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medi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mpre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Molte di esse si sono sviluppate in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ettori tradizionali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mobili, strumenti musicali, pelletteria, cart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80"/>
                </a:solidFill>
                <a:latin typeface="Arial"/>
              </a:rPr>
              <a:t>Turism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Sviluppato il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turismo balneare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 nelle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città d'art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Urbin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Ascoli Picen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Diffuso anche il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turismo religios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it-IT" sz="2600" spc="-1" strike="noStrike">
                <a:solidFill>
                  <a:srgbClr val="000000"/>
                </a:solidFill>
                <a:latin typeface="Arial"/>
              </a:rPr>
              <a:t>Loreto Marche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LTRE NOTIZI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600" spc="-1" strike="noStrike">
                <a:solidFill>
                  <a:srgbClr val="000080"/>
                </a:solidFill>
                <a:latin typeface="Arial"/>
              </a:rPr>
              <a:t>Curiosità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d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Ascoli Picen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, si tiene ogni anno la Quint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02920" y="720360"/>
            <a:ext cx="9070920" cy="6319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lvl="2" marL="1295280" indent="-28728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iatti Tipici Marchigia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 provare assolutamente sono quelle pietanze in cui i sapori e gli aromi tipici della montagna sono abilmente mescolati a quelli marinari come, ad esempio, gl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paghetti mari e mon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a base di calamari e funghi, e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ana pescatri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rchet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a base di rana e fagio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tri primi piatti tipici della cucina marchigiana sono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sagne all´ascola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ondite con il tartufo bianco, i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appelletti in brodo di capp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agliatelle con i calamar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olecch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code di scampi dal guscio tenero),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inestra di ceci e ma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lassiche tagliatelle al tartufo,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igorosamente bian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nche per i secondi piatti le pietanze sono diverse a seconda che ci si trovi sulla costa o, al contrario, in qualche caratteristica località di montag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ipiche pietanze costiere sono il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merluzzo alla marchigia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ondito con un sugo di pomodoro,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arde di Anco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impanate e cotte al forno, il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baccalà in bianc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con salsa verde a base di prezzemolo e lo stoccafisso, preparato in umido con patate o in `potacchio´, ossia brasato con pomodoro, acciughe, aglio, rosmarino, prezzemolo e peperonci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 i piatti tipici di montagna sono da provare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lenta costarella e salsic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a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inestra di ceci e mai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uova fritte nel burro e cosparse di filetti di tartuf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insalata di funghi e tartuf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5292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Arial"/>
              </a:rPr>
              <a:t>Giovanni D'Agostino 1^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6000" spc="-1" strike="noStrike">
                <a:solidFill>
                  <a:srgbClr val="000000"/>
                </a:solidFill>
                <a:latin typeface="Arial"/>
              </a:rPr>
              <a:t>2015/20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51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60000" y="144360"/>
            <a:ext cx="907092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80"/>
                </a:solidFill>
                <a:latin typeface="Arial"/>
              </a:rPr>
              <a:t>Il nome Marche: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l nome </a:t>
            </a: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Marche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viene dal tedesco antico </a:t>
            </a:r>
            <a:r>
              <a:rPr b="0" i="1" lang="it-IT" sz="3600" spc="-1" strike="noStrike">
                <a:solidFill>
                  <a:srgbClr val="000000"/>
                </a:solidFill>
                <a:latin typeface="Arial"/>
              </a:rPr>
              <a:t>Mark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che significa </a:t>
            </a: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regione di confine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. Nel medioevo, infatti, la regione era al confine con i territori del Sacro Romano Imp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04760"/>
            <a:ext cx="9863280" cy="74548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tatuto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e a statuto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ordinari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uperficie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9.366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km</a:t>
            </a:r>
            <a:r>
              <a:rPr b="0" lang="it-IT" sz="2000" spc="-1" strike="noStrike" baseline="12000">
                <a:solidFill>
                  <a:srgbClr val="000000"/>
                </a:solidFill>
                <a:latin typeface="Arial"/>
              </a:rPr>
              <a:t>2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superficie delle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March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appresenta solamente il 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3,1%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 del territorio nazion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polazione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1.565.335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abitan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ensità di popolazione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167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abitanti per km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Province</a:t>
            </a:r>
            <a:r>
              <a:rPr b="1" lang="it-IT" sz="20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ncon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poluogo di reg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scoli Picen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Ferm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Macera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esar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Urb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uperfic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03280" y="1655640"/>
            <a:ext cx="943128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uperficie:9 366 Km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ri:Mar Adria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Rilievi montuosi:Appennino Umbro-Marchigi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.Pennino,M.Fema,M.Vett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iumi(a carattere  torrentizzio):   Foglia,Metauro,Esino,Chienti,Tr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poluogo di Regione:Ancon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apoluoghi di Provincia:                               Ascoli Piceno,Fermo,Macerata,Pesaro,Urb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nfini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Oves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Umbria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Toscana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Emilia Romagn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Nord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Emilia Romagna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San Marino 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Mare Adria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Mare Adriatic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it-IT" sz="2600" spc="-1" strike="noStrike">
                <a:solidFill>
                  <a:srgbClr val="000000"/>
                </a:solidFill>
                <a:latin typeface="Arial"/>
              </a:rPr>
              <a:t>Sud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Abruzz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zio</a:t>
            </a: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it-IT" sz="26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Umbria</a:t>
            </a:r>
            <a:r>
              <a:rPr b="1" lang="it-IT" sz="2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47880" y="64800"/>
            <a:ext cx="9070920" cy="75517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conomia in gener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rodotto interno lordo pro-capit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e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rch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non è tra i maggiori dell'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Ital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la regione risulta solamente all'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11° pos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Agricoltura</a:t>
            </a:r>
            <a:r>
              <a:rPr b="1" lang="it-IT" sz="24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arbabietole da zuccher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rea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Ortagg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Alberi da frut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Legum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Giraso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'agricoltur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è praticata nelle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zone collinar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2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Allevamento</a:t>
            </a:r>
            <a:r>
              <a:rPr b="1" lang="it-IT" sz="24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vico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ui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Conigl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12600"/>
            <a:ext cx="10152000" cy="7547040"/>
          </a:xfrm>
          <a:prstGeom prst="rect">
            <a:avLst/>
          </a:prstGeom>
          <a:noFill/>
          <a:ln w="0">
            <a:noFill/>
          </a:ln>
        </p:spPr>
        <p:txBody>
          <a:bodyPr lIns="0" rIns="0" tIns="1584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March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on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··4° regione italia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··allevamen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avico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6%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produzione nazion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··6° regione italia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allevamento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suin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con il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2%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produzione nazional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··7° regione italia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per allevamento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nig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più de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3%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lla produzione nazion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esca</a:t>
            </a:r>
            <a:r>
              <a:rPr b="1" lang="it-IT" sz="18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iffus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nei porti d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a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sa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San Benedett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ffusa l'industria di surgelazione del pes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dustria</a:t>
            </a:r>
            <a:r>
              <a:rPr b="1" lang="it-IT" sz="1800" spc="-1" strike="noStrike">
                <a:solidFill>
                  <a:srgbClr val="00008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limenta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Abbigliamen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Ascoli Pice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alzatur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- Macerata e Ascoli Pice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Mobil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sar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lettrodomestic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antieri Nava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 Ancon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Carta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Fabria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Strumenti musicali </a:t>
            </a: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- Castelfidard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20:10:41Z</dcterms:created>
  <dc:creator>Nicola </dc:creator>
  <dc:description/>
  <dc:language>en-US</dc:language>
  <cp:lastModifiedBy>Angela</cp:lastModifiedBy>
  <dcterms:modified xsi:type="dcterms:W3CDTF">2016-06-15T20:41:35Z</dcterms:modified>
  <cp:revision>5</cp:revision>
  <dc:subject/>
  <dc:title>Presentazione standard di PowerPoint</dc:title>
</cp:coreProperties>
</file>