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AAFB5-3D31-4FA3-AFF7-CA857992E0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D991B-CB8D-431D-9C26-CAE89952ED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444B2-63E5-4930-BA48-7589A3A0D5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1FB2A-B279-48E2-8182-3EBCF3CDB0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B9C33-1495-432C-BB40-EDFAFF1B9A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3B3D5-965F-4D5B-8CD2-A19448756B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18BD7-5342-4739-B58C-F43C8E04E7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B2B3A-9D55-4517-B4CE-660B166050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A322C-F162-410E-AE91-27FA9E8733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74304-AB61-4CFE-BE4C-968D5CDDF7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8D245-E7B1-49CE-9A00-DBB8183790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0EF4F-2A16-4465-8EA1-C5D6573D08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A610C-4A2A-44DE-B644-50BB78155F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EC8-A0BB-48C6-A699-71F33BB4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D16-575E-44AA-A600-DD5DC0A4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88E-342D-4767-A4C2-E27BAA90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EFB-B138-48E1-B18E-767A5EFD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E5B-0E7E-4CD9-8BF0-BE3875BE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545-31FD-4F12-9FAA-89476257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E21-9DF0-4602-9C53-F6446DE9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5C6-FBB2-4FD1-B9D2-EE33ADC4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0B6-1002-496C-866F-4F345CD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33E-0F77-48A5-A2AB-DA2B35C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444-D2B5-4AC5-8E52-349D35E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A5B-D5FE-4C3F-AF82-0BB33DE4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FC1B9E-C79B-4792-8972-858166D3A3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Tabelle/Elenco_regioni_italiane.htm" TargetMode="External"/><Relationship Id="rId2" Type="http://schemas.openxmlformats.org/officeDocument/2006/relationships/hyperlink" Target="file:///../Statistiche/Superficie_regioni_italiane.htm" TargetMode="External"/><Relationship Id="rId3" Type="http://schemas.openxmlformats.org/officeDocument/2006/relationships/hyperlink" Target="file:///../Statistiche/Superficie_regioni_italiane.htm" TargetMode="External"/><Relationship Id="rId4" Type="http://schemas.openxmlformats.org/officeDocument/2006/relationships/hyperlink" Target="file:///../Statistiche/Superficie_regioni_italiane.htm" TargetMode="External"/><Relationship Id="rId5" Type="http://schemas.openxmlformats.org/officeDocument/2006/relationships/hyperlink" Target="file:///../Statistiche/Popolazione_regioni_italiane.htm" TargetMode="External"/><Relationship Id="rId6" Type="http://schemas.openxmlformats.org/officeDocument/2006/relationships/hyperlink" Target="file:///../Statistiche/Densita_popolazione_regioni.htm" TargetMode="External"/><Relationship Id="rId7" Type="http://schemas.openxmlformats.org/officeDocument/2006/relationships/hyperlink" Target="file:///../../geografia/densita_popolazione.htm" TargetMode="External"/><Relationship Id="rId8" Type="http://schemas.openxmlformats.org/officeDocument/2006/relationships/hyperlink" Target="file:///../Tabelle/Province.htm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mbria.htm" TargetMode="External"/><Relationship Id="rId2" Type="http://schemas.openxmlformats.org/officeDocument/2006/relationships/hyperlink" Target="file:///Toscana.htm" TargetMode="External"/><Relationship Id="rId3" Type="http://schemas.openxmlformats.org/officeDocument/2006/relationships/hyperlink" Target="file:///Emilia_Romagna.htm" TargetMode="External"/><Relationship Id="rId4" Type="http://schemas.openxmlformats.org/officeDocument/2006/relationships/hyperlink" Target="file:///Emilia_Romagna.htm" TargetMode="External"/><Relationship Id="rId5" Type="http://schemas.openxmlformats.org/officeDocument/2006/relationships/hyperlink" Target="file:///../Mari_Coste/mar_adriatico.htm" TargetMode="External"/><Relationship Id="rId6" Type="http://schemas.openxmlformats.org/officeDocument/2006/relationships/hyperlink" Target="file:///Abruzzo.htm" TargetMode="External"/><Relationship Id="rId7" Type="http://schemas.openxmlformats.org/officeDocument/2006/relationships/hyperlink" Target="file:///Lazio.htm" TargetMode="External"/><Relationship Id="rId8" Type="http://schemas.openxmlformats.org/officeDocument/2006/relationships/hyperlink" Target="file:///Umbria.htm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Italia_in_generale/italia.htm" TargetMode="External"/><Relationship Id="rId2" Type="http://schemas.openxmlformats.org/officeDocument/2006/relationships/hyperlink" Target="file:///../Statistiche/Pil_procapite_regioni.htm" TargetMode="External"/><Relationship Id="rId3" Type="http://schemas.openxmlformats.org/officeDocument/2006/relationships/hyperlink" Target="file:///../Statistiche/Produzioni_agricole_italia.htm" TargetMode="External"/><Relationship Id="rId4" Type="http://schemas.openxmlformats.org/officeDocument/2006/relationships/hyperlink" Target="file:///../../geografia_economica/canna_da_zucchero_barbabietola.htm" TargetMode="External"/><Relationship Id="rId5" Type="http://schemas.openxmlformats.org/officeDocument/2006/relationships/hyperlink" Target="file:///../../geografia_economica/frumento.htm" TargetMode="External"/><Relationship Id="rId6" Type="http://schemas.openxmlformats.org/officeDocument/2006/relationships/hyperlink" Target="file:///../../geografia_economica/piante_da_frutto_ortaggi.htm" TargetMode="External"/><Relationship Id="rId7" Type="http://schemas.openxmlformats.org/officeDocument/2006/relationships/hyperlink" Target="file:///../../geografia_economica/piante_da_frutto_ortaggi.htm" TargetMode="External"/><Relationship Id="rId8" Type="http://schemas.openxmlformats.org/officeDocument/2006/relationships/hyperlink" Target="file:///../../geografia_economica/legumi.htm" TargetMode="External"/><Relationship Id="rId9" Type="http://schemas.openxmlformats.org/officeDocument/2006/relationships/hyperlink" Target="file:///../../geografia_economica/piante_oleifere.htm" TargetMode="External"/><Relationship Id="rId10" Type="http://schemas.openxmlformats.org/officeDocument/2006/relationships/hyperlink" Target="file:///../../geografia_economica/agricoltura.htm" TargetMode="External"/><Relationship Id="rId11" Type="http://schemas.openxmlformats.org/officeDocument/2006/relationships/hyperlink" Target="file:///../Statistiche/Allevamento_bestiame_italia.htm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Statistiche/Allevamento_bestiame_italia_1.htm" TargetMode="External"/><Relationship Id="rId2" Type="http://schemas.openxmlformats.org/officeDocument/2006/relationships/hyperlink" Target="file:///../../geografia_economica/allevamento_bestiame.htm" TargetMode="External"/><Relationship Id="rId3" Type="http://schemas.openxmlformats.org/officeDocument/2006/relationships/hyperlink" Target="file:///../Statistiche/Allevamento_bestiame_italia_1.htm" TargetMode="External"/><Relationship Id="rId4" Type="http://schemas.openxmlformats.org/officeDocument/2006/relationships/hyperlink" Target="file:///../Statistiche/Allevamento_bestiame_italia_1.htm" TargetMode="External"/><Relationship Id="rId5" Type="http://schemas.openxmlformats.org/officeDocument/2006/relationships/hyperlink" Target="file:///../../geografia_economica/evoluzione_pesca.htm" TargetMode="External"/><Relationship Id="rId6" Type="http://schemas.openxmlformats.org/officeDocument/2006/relationships/hyperlink" Target="file:///../../geografia_economica/settore_secondario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31640" y="431640"/>
            <a:ext cx="90727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elle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arch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ono diffuse soprattutto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icco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edi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pre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olte di esse si sono sviluppate in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ettori tradizionali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mobili, strumenti musicali, pelletteria, cart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80"/>
                </a:solidFill>
                <a:latin typeface="Arial"/>
              </a:rPr>
              <a:t>Turis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viluppato il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turismo balnear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 nelle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città d'art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Urbin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Ascoli Picen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ffuso anche il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turismo religios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Loreto March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TRE NOTIZ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80"/>
                </a:solidFill>
                <a:latin typeface="Arial"/>
              </a:rPr>
              <a:t>Curiosit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scoli Picen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si tiene ogni anno la Qui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2920" y="720360"/>
            <a:ext cx="907092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iatti Tipici Marchigia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provare assolutamente sono quelle pietanze in cui i sapori e gli aromi tipici della montagna sono abilmente mescolati a quelli marinari come, ad esempio, gl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aghetti mari e mo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 base di calamari e funghi, e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ana pescatri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chet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 base di rana e fagio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i primi piatti tipici della cucina marchigiana sono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sagne all´ascola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dite con il tartufo bianco, 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ppelletti in brodo di capp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gliatelle con i calama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lec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ode di scampi dal guscio tenero),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nestra di ceci e ma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lassiche tagliatelle al tartufo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igorosamente bian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per i secondi piatti le pietanze sono diverse a seconda che ci si trovi sulla costa o, al contrario, in qualche caratteristica località di montag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piche pietanze costiere sono il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merluzzo alla marchigia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dito con un sugo di pomodoro,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arde di Anco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impanate e cotte al forno, 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accalà in bian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 salsa verde a base di prezzemolo e lo stoccafisso, preparato in umido con patate o in `potacchio´, ossia brasato con pomodoro, acciughe, aglio, rosmarino, prezzemolo e peperonc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 i piatti tipici di montagna sono da provare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lenta costarella e salsic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nestra di ceci e ma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ova fritte nel burro e cosparse di filetti di tartuf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insalata di funghi e tartuf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Giovanni D'Agostino 1^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2015/20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60000" y="144360"/>
            <a:ext cx="907092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Il nome Marche: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nome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March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viene dal tedesco antico </a:t>
            </a:r>
            <a:r>
              <a:rPr b="0" i="1" lang="it-IT" sz="3600" spc="-1" strike="noStrike">
                <a:solidFill>
                  <a:srgbClr val="000000"/>
                </a:solidFill>
                <a:latin typeface="Arial"/>
              </a:rPr>
              <a:t>Mark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he significa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regione di confin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 Nel medioevo, infatti, la regione era al confine con i territori del Sacro Romano Imp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04760"/>
            <a:ext cx="9863280" cy="7454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atuto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e a statuto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ordina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uperfici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9.366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km</a:t>
            </a:r>
            <a:r>
              <a:rPr b="0" lang="it-IT" sz="2000" spc="-1" strike="noStrike" baseline="12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superficie de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r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appresenta solamente il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3,1%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del territorio nazion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polazion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.565.335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bita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nsità di popolazion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67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abitanti per k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Provinc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nco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poluogo di reg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scoli Pice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Ferm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acer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esa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rb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perfic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03280" y="1655640"/>
            <a:ext cx="94312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perficie:9 366 Km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ri:Mar Adria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lievi montuosi:Appennino Umbro-Marchig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.Pennino,M.Fema,M.Vet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iumi(a carattere  torrentizzio):   Foglia,Metauro,Esino,Chienti,Tr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poluogo di Regione:Ancon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poluoghi di Provincia:                               Ascoli Piceno,Fermo,Macerata,Pesaro,Urb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nfin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ves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Umbria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oscana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milia Romagn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Nord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Emilia Romagn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San Marino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Mare Adria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Mare Adria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ud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Abruzz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zi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Umbria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47880" y="64800"/>
            <a:ext cx="9070920" cy="75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conomia in gener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dotto interno lordo pro-capi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r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n è tra i maggiori dell'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tal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la regione risulta solamente all'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1° pos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gricoltura</a:t>
            </a: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arbabietole da zuccher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re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Ortagg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Alberi da frut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Legum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Giraso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'agricoltu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raticata ne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zone collina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Allevamento</a:t>
            </a: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vico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ui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onig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2600"/>
            <a:ext cx="10152000" cy="75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ch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··4° regione ital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··allev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avico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roduzione nazio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··6° regione ital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allevamento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i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il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2%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roduzione nazio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··7° regione ital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allevamento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ig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più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%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roduzione nazi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esca</a:t>
            </a:r>
            <a:r>
              <a:rPr b="1" lang="it-IT" sz="18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iffus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i porti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sa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an Bened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usa l'industria di surgelazione del pes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dustria</a:t>
            </a:r>
            <a:r>
              <a:rPr b="1" lang="it-IT" sz="18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imen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bbigliamen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scoli Pice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lzatu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- Macerata e Ascoli Pice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obi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sa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odomes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ntieri Nava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Anco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r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bri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trumenti musical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- Castelfidard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20:10:41Z</dcterms:created>
  <dc:creator>Nicola </dc:creator>
  <dc:description/>
  <dc:language>en-US</dc:language>
  <cp:lastModifiedBy>Angela</cp:lastModifiedBy>
  <dcterms:modified xsi:type="dcterms:W3CDTF">2016-06-15T20:41:35Z</dcterms:modified>
  <cp:revision>5</cp:revision>
  <dc:subject/>
  <dc:title>Presentazione standard di PowerPoint</dc:title>
</cp:coreProperties>
</file>